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　　　　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4-4 Up/Down/Front/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0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D2E95-65FB-4F4A-9032-0B3D971B8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　　　　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4-4 Up/Down/Front/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ictures are from Minnano Kyozai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6159-CFC1-427F-B6D3-6C0BB75F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2334-DDAA-46AC-A1F8-B0DB2222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ACAF-2D3B-4471-AE25-FE24F7F99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DC2-EECC-4C4C-9CC0-AA0F73AF6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D5B-083D-4D90-8CB8-DCC70FD7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99DE-CD24-4DB6-9F71-FAC1E703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7C6D-6D03-41D3-9CE0-569CFEBB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E63-5E54-4C6E-811E-5585423B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AA43-9F18-4EDC-976A-2324A4B0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1314-BEEC-4007-8803-9FAA7D95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563-BC4D-4779-8419-207460C7A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C243-6333-4568-AA4B-DB8D9B2F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572F-633B-4FF7-867E-F8B8BA6FD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3"/>
          <p:cNvGrpSpPr/>
          <p:nvPr/>
        </p:nvGrpSpPr>
        <p:grpSpPr>
          <a:xfrm>
            <a:off x="2556000" y="3141720"/>
            <a:ext cx="3417840" cy="2695680"/>
            <a:chOff x="2556000" y="3141720"/>
            <a:chExt cx="3417840" cy="2695680"/>
          </a:xfrm>
        </p:grpSpPr>
        <p:pic>
          <p:nvPicPr>
            <p:cNvPr id="50" name="Picture 10" descr=""/>
            <p:cNvPicPr/>
            <p:nvPr/>
          </p:nvPicPr>
          <p:blipFill>
            <a:blip r:embed="rId1"/>
            <a:stretch/>
          </p:blipFill>
          <p:spPr>
            <a:xfrm>
              <a:off x="2556000" y="3141720"/>
              <a:ext cx="3417840" cy="26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1"/>
            <p:cNvSpPr/>
            <p:nvPr/>
          </p:nvSpPr>
          <p:spPr>
            <a:xfrm>
              <a:off x="3203640" y="357336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800080"/>
                  </a:solidFill>
                  <a:latin typeface="Arial"/>
                </a:rPr>
                <a:t>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2"/>
            <p:cNvSpPr/>
            <p:nvPr/>
          </p:nvSpPr>
          <p:spPr>
            <a:xfrm>
              <a:off x="4788000" y="357336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9999"/>
                  </a:solidFill>
                  <a:latin typeface="Arial"/>
                </a:rPr>
                <a:t>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 and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940360" y="1628640"/>
            <a:ext cx="1224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5940360" y="5445000"/>
            <a:ext cx="1944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>
            <a:off x="7164360" y="1628640"/>
            <a:ext cx="503280" cy="1152720"/>
          </a:xfrm>
          <a:prstGeom prst="upArrow">
            <a:avLst>
              <a:gd name="adj1" fmla="val 50000"/>
              <a:gd name="adj2" fmla="val 572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7667640" y="4869000"/>
            <a:ext cx="576360" cy="115236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7d5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1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2584440" cy="3889440"/>
          </a:xfrm>
          <a:prstGeom prst="rect">
            <a:avLst/>
          </a:prstGeom>
          <a:ln w="0">
            <a:noFill/>
          </a:ln>
        </p:spPr>
      </p:pic>
      <p:pic>
        <p:nvPicPr>
          <p:cNvPr id="59" name="MSSN2890.wav" descr=""/>
          <p:cNvPicPr/>
          <p:nvPr/>
        </p:nvPicPr>
        <p:blipFill>
          <a:blip r:embed="rId2"/>
          <a:stretch/>
        </p:blipFill>
        <p:spPr>
          <a:xfrm>
            <a:off x="665964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7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ont and 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1547640" y="5300640"/>
            <a:ext cx="108144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6588000" y="5373720"/>
            <a:ext cx="194328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H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8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2892240" cy="397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9" descr=""/>
          <p:cNvPicPr/>
          <p:nvPr/>
        </p:nvPicPr>
        <p:blipFill>
          <a:blip r:embed="rId2"/>
          <a:stretch/>
        </p:blipFill>
        <p:spPr>
          <a:xfrm>
            <a:off x="1042920" y="3933720"/>
            <a:ext cx="1309680" cy="1338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0" descr=""/>
          <p:cNvPicPr/>
          <p:nvPr/>
        </p:nvPicPr>
        <p:blipFill>
          <a:blip r:embed="rId3"/>
          <a:stretch/>
        </p:blipFill>
        <p:spPr>
          <a:xfrm>
            <a:off x="6732720" y="3933720"/>
            <a:ext cx="1309680" cy="1338480"/>
          </a:xfrm>
          <a:prstGeom prst="rect">
            <a:avLst/>
          </a:prstGeom>
          <a:ln w="0">
            <a:noFill/>
          </a:ln>
        </p:spPr>
      </p:pic>
      <p:pic>
        <p:nvPicPr>
          <p:cNvPr id="66" name="MSSN2890.wav" descr=""/>
          <p:cNvPicPr/>
          <p:nvPr/>
        </p:nvPicPr>
        <p:blipFill>
          <a:blip r:embed="rId4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862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7:07:20Z</dcterms:created>
  <dc:creator>h.tanaka</dc:creator>
  <dc:description/>
  <dc:language>en-US</dc:language>
  <cp:lastModifiedBy>Hiroko Tanaka</cp:lastModifiedBy>
  <cp:lastPrinted>2014-07-31T18:08:18Z</cp:lastPrinted>
  <dcterms:modified xsi:type="dcterms:W3CDTF">2014-07-31T18:08:20Z</dcterms:modified>
  <cp:revision>27</cp:revision>
  <dc:subject/>
  <dc:title>Preposition</dc:title>
</cp:coreProperties>
</file>